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958CF-544F-482C-8D23-6105A9B0F7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7EFCA-8DCA-45D8-B85D-C9B7B8591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1941F-9A60-4930-86BE-EAFE25C7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F9F4D-ACE1-4D2C-B6D3-99D0F7DDA4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9F607-D2B0-4E86-9041-C239DFE75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CF28C-CB62-4BE3-BC73-781FBE452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A1E4D-50E8-4A9F-AFC0-8731D397F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A69B2-E237-4FFA-8E75-E7D48D3BD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1928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06DDC-5046-49B3-BC76-23F17391B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00BFF-21E5-472A-B5FA-4E9F16BD6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90B44-A167-48F3-8D1D-CCBD80CC4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BAC92-68A2-4A39-97E2-454954B69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SzPct val="1235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0ADB0-1DCA-48AB-99DF-16B268D0A1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-1440" y="52560"/>
            <a:ext cx="720720" cy="431640"/>
            <a:chOff x="-1440" y="52560"/>
            <a:chExt cx="720720" cy="431640"/>
          </a:xfrm>
        </p:grpSpPr>
        <p:sp>
          <p:nvSpPr>
            <p:cNvPr id="45" name=""/>
            <p:cNvSpPr/>
            <p:nvPr/>
          </p:nvSpPr>
          <p:spPr>
            <a:xfrm>
              <a:off x="4320" y="52560"/>
              <a:ext cx="714960" cy="251640"/>
            </a:xfrm>
            <a:custGeom>
              <a:avLst/>
              <a:gdLst/>
              <a:ahLst/>
              <a:rect l="l" t="t" r="r" b="b"/>
              <a:pathLst>
                <a:path w="121" h="49">
                  <a:moveTo>
                    <a:pt x="45" y="18"/>
                  </a:moveTo>
                  <a:lnTo>
                    <a:pt x="55" y="23"/>
                  </a:lnTo>
                  <a:cubicBezTo>
                    <a:pt x="60" y="24"/>
                    <a:pt x="65" y="27"/>
                    <a:pt x="69" y="29"/>
                  </a:cubicBezTo>
                  <a:cubicBezTo>
                    <a:pt x="79" y="43"/>
                    <a:pt x="83" y="49"/>
                    <a:pt x="99" y="41"/>
                  </a:cubicBezTo>
                  <a:cubicBezTo>
                    <a:pt x="106" y="36"/>
                    <a:pt x="113" y="31"/>
                    <a:pt x="121" y="26"/>
                  </a:cubicBezTo>
                  <a:cubicBezTo>
                    <a:pt x="121" y="25"/>
                    <a:pt x="121" y="23"/>
                    <a:pt x="121" y="22"/>
                  </a:cubicBezTo>
                  <a:cubicBezTo>
                    <a:pt x="114" y="26"/>
                    <a:pt x="107" y="30"/>
                    <a:pt x="100" y="34"/>
                  </a:cubicBezTo>
                  <a:cubicBezTo>
                    <a:pt x="98" y="35"/>
                    <a:pt x="96" y="35"/>
                    <a:pt x="94" y="34"/>
                  </a:cubicBezTo>
                  <a:cubicBezTo>
                    <a:pt x="87" y="24"/>
                    <a:pt x="81" y="14"/>
                    <a:pt x="74" y="5"/>
                  </a:cubicBezTo>
                  <a:cubicBezTo>
                    <a:pt x="67" y="0"/>
                    <a:pt x="65" y="0"/>
                    <a:pt x="57" y="3"/>
                  </a:cubicBezTo>
                  <a:cubicBezTo>
                    <a:pt x="38" y="15"/>
                    <a:pt x="19" y="27"/>
                    <a:pt x="0" y="39"/>
                  </a:cubicBezTo>
                  <a:cubicBezTo>
                    <a:pt x="0" y="41"/>
                    <a:pt x="0" y="42"/>
                    <a:pt x="0" y="44"/>
                  </a:cubicBezTo>
                  <a:cubicBezTo>
                    <a:pt x="20" y="31"/>
                    <a:pt x="20" y="31"/>
                    <a:pt x="52" y="12"/>
                  </a:cubicBezTo>
                  <a:cubicBezTo>
                    <a:pt x="57" y="12"/>
                    <a:pt x="58" y="13"/>
                    <a:pt x="61" y="17"/>
                  </a:cubicBezTo>
                  <a:cubicBezTo>
                    <a:pt x="61" y="17"/>
                    <a:pt x="61" y="18"/>
                    <a:pt x="60" y="18"/>
                  </a:cubicBezTo>
                  <a:cubicBezTo>
                    <a:pt x="55" y="17"/>
                    <a:pt x="51" y="17"/>
                    <a:pt x="45" y="18"/>
                  </a:cubicBezTo>
                  <a:close/>
                </a:path>
              </a:pathLst>
            </a:custGeom>
            <a:solidFill>
              <a:srgbClr val="52aa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1440" y="150120"/>
              <a:ext cx="720720" cy="241200"/>
            </a:xfrm>
            <a:custGeom>
              <a:avLst/>
              <a:gdLst/>
              <a:ahLst/>
              <a:rect l="l" t="t" r="r" b="b"/>
              <a:pathLst>
                <a:path w="122" h="47">
                  <a:moveTo>
                    <a:pt x="56" y="3"/>
                  </a:moveTo>
                  <a:lnTo>
                    <a:pt x="54" y="1"/>
                  </a:lnTo>
                  <a:lnTo>
                    <a:pt x="52" y="1"/>
                  </a:lnTo>
                  <a:lnTo>
                    <a:pt x="49" y="0"/>
                  </a:lnTo>
                  <a:lnTo>
                    <a:pt x="46" y="0"/>
                  </a:lnTo>
                  <a:cubicBezTo>
                    <a:pt x="31" y="10"/>
                    <a:pt x="15" y="20"/>
                    <a:pt x="0" y="30"/>
                  </a:cubicBezTo>
                  <a:cubicBezTo>
                    <a:pt x="0" y="32"/>
                    <a:pt x="0" y="34"/>
                    <a:pt x="0" y="35"/>
                  </a:cubicBezTo>
                  <a:cubicBezTo>
                    <a:pt x="12" y="28"/>
                    <a:pt x="24" y="20"/>
                    <a:pt x="36" y="13"/>
                  </a:cubicBezTo>
                  <a:cubicBezTo>
                    <a:pt x="37" y="12"/>
                    <a:pt x="38" y="12"/>
                    <a:pt x="40" y="13"/>
                  </a:cubicBezTo>
                  <a:cubicBezTo>
                    <a:pt x="52" y="23"/>
                    <a:pt x="54" y="40"/>
                    <a:pt x="70" y="46"/>
                  </a:cubicBezTo>
                  <a:cubicBezTo>
                    <a:pt x="73" y="47"/>
                    <a:pt x="75" y="46"/>
                    <a:pt x="77" y="45"/>
                  </a:cubicBezTo>
                  <a:cubicBezTo>
                    <a:pt x="93" y="37"/>
                    <a:pt x="107" y="26"/>
                    <a:pt x="122" y="16"/>
                  </a:cubicBezTo>
                  <a:cubicBezTo>
                    <a:pt x="122" y="15"/>
                    <a:pt x="122" y="13"/>
                    <a:pt x="122" y="11"/>
                  </a:cubicBezTo>
                  <a:cubicBezTo>
                    <a:pt x="108" y="18"/>
                    <a:pt x="96" y="29"/>
                    <a:pt x="82" y="35"/>
                  </a:cubicBezTo>
                  <a:cubicBezTo>
                    <a:pt x="80" y="36"/>
                    <a:pt x="79" y="36"/>
                    <a:pt x="78" y="35"/>
                  </a:cubicBezTo>
                  <a:cubicBezTo>
                    <a:pt x="72" y="25"/>
                    <a:pt x="65" y="15"/>
                    <a:pt x="59" y="6"/>
                  </a:cubicBezTo>
                  <a:cubicBezTo>
                    <a:pt x="58" y="6"/>
                    <a:pt x="58" y="5"/>
                    <a:pt x="58" y="5"/>
                  </a:cubicBezTo>
                  <a:cubicBezTo>
                    <a:pt x="58" y="5"/>
                    <a:pt x="56" y="3"/>
                    <a:pt x="56" y="3"/>
                  </a:cubicBezTo>
                  <a:close/>
                </a:path>
              </a:pathLst>
            </a:custGeom>
            <a:solidFill>
              <a:srgbClr val="008c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1440" y="242640"/>
              <a:ext cx="720720" cy="241560"/>
            </a:xfrm>
            <a:custGeom>
              <a:avLst/>
              <a:gdLst/>
              <a:ahLst/>
              <a:rect l="l" t="t" r="r" b="b"/>
              <a:pathLst>
                <a:path w="122" h="47">
                  <a:moveTo>
                    <a:pt x="54" y="45"/>
                  </a:moveTo>
                  <a:cubicBezTo>
                    <a:pt x="51" y="43"/>
                    <a:pt x="49" y="42"/>
                    <a:pt x="47" y="40"/>
                  </a:cubicBezTo>
                  <a:cubicBezTo>
                    <a:pt x="37" y="26"/>
                    <a:pt x="26" y="19"/>
                    <a:pt x="9" y="24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11" y="21"/>
                    <a:pt x="14" y="20"/>
                    <a:pt x="16" y="18"/>
                  </a:cubicBezTo>
                  <a:cubicBezTo>
                    <a:pt x="19" y="17"/>
                    <a:pt x="28" y="17"/>
                    <a:pt x="31" y="18"/>
                  </a:cubicBezTo>
                  <a:cubicBezTo>
                    <a:pt x="28" y="14"/>
                    <a:pt x="28" y="13"/>
                    <a:pt x="22" y="13"/>
                  </a:cubicBezTo>
                  <a:cubicBezTo>
                    <a:pt x="15" y="17"/>
                    <a:pt x="8" y="21"/>
                    <a:pt x="0" y="26"/>
                  </a:cubicBezTo>
                  <a:cubicBezTo>
                    <a:pt x="0" y="24"/>
                    <a:pt x="1" y="22"/>
                    <a:pt x="1" y="20"/>
                  </a:cubicBezTo>
                  <a:cubicBezTo>
                    <a:pt x="10" y="14"/>
                    <a:pt x="19" y="8"/>
                    <a:pt x="28" y="3"/>
                  </a:cubicBezTo>
                  <a:cubicBezTo>
                    <a:pt x="36" y="0"/>
                    <a:pt x="37" y="1"/>
                    <a:pt x="45" y="5"/>
                  </a:cubicBezTo>
                  <a:cubicBezTo>
                    <a:pt x="51" y="14"/>
                    <a:pt x="58" y="24"/>
                    <a:pt x="65" y="34"/>
                  </a:cubicBezTo>
                  <a:cubicBezTo>
                    <a:pt x="66" y="35"/>
                    <a:pt x="67" y="35"/>
                    <a:pt x="71" y="34"/>
                  </a:cubicBezTo>
                  <a:cubicBezTo>
                    <a:pt x="121" y="3"/>
                    <a:pt x="121" y="3"/>
                    <a:pt x="122" y="2"/>
                  </a:cubicBezTo>
                  <a:cubicBezTo>
                    <a:pt x="122" y="5"/>
                    <a:pt x="122" y="7"/>
                    <a:pt x="122" y="9"/>
                  </a:cubicBezTo>
                  <a:cubicBezTo>
                    <a:pt x="106" y="18"/>
                    <a:pt x="106" y="18"/>
                    <a:pt x="68" y="42"/>
                  </a:cubicBezTo>
                  <a:cubicBezTo>
                    <a:pt x="63" y="46"/>
                    <a:pt x="60" y="47"/>
                    <a:pt x="54" y="45"/>
                  </a:cubicBezTo>
                  <a:close/>
                </a:path>
              </a:pathLst>
            </a:custGeom>
            <a:solidFill>
              <a:srgbClr val="194b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28720" y="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71640" y="476280"/>
            <a:ext cx="174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GÊNCIA NACIONAL DE ÁGUA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88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18000" y="2881080"/>
            <a:ext cx="1211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2482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d1ec"/>
                </a:solidFill>
                <a:latin typeface="Arial"/>
              </a:rPr>
              <a:t>COMISSÃO DE ACOMPANHAMENTO DOS CONTRATOS DE GESTÃ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4362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RATO DE GESTÃO ANA AGEV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238880" cy="799920"/>
          </a:xfrm>
          <a:prstGeom prst="rect">
            <a:avLst/>
          </a:prstGeom>
          <a:solidFill>
            <a:srgbClr val="45c98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ª FASE DO CONTRATO DE GEST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762280" y="1104840"/>
            <a:ext cx="480060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BUSCA DE PRODUTOS PARA A GEST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38120" y="3886200"/>
            <a:ext cx="723960" cy="1714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238140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DUTOS IMPORTA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33400" y="3352680"/>
            <a:ext cx="5467680" cy="2871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PUBLICAÇÃO SOBRE A SITUAÇÃO DA BACI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RELATÓRIO COM SUBSÍDIOS À REGULAÇ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MANUAL DE INVESTIMEN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AVALIAÇÃO PERIÓDICA DA COBRANÇ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62040" y="1828800"/>
            <a:ext cx="7143840" cy="3682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ULTADOS DAS 4 REUNIÕES ANA AGEVAP CEIV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18920" y="188640"/>
            <a:ext cx="7162920" cy="819000"/>
          </a:xfrm>
          <a:prstGeom prst="rect">
            <a:avLst/>
          </a:prstGeom>
          <a:solidFill>
            <a:srgbClr val="45c98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ª FASE DO CONTRATO DE GEST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14600" y="1219320"/>
            <a:ext cx="53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VO PROGRAMA DE TRABAL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1758960"/>
            <a:ext cx="9144000" cy="432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847880" y="781200"/>
            <a:ext cx="6458040" cy="1015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ALENDÁRIO DE TRABALH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VISÃO DO CONTRATO DE GEST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14600" y="2076480"/>
            <a:ext cx="45910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/03 – 1ª Reunião – Texto + concei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/04 – 2ª Reunião – Texto + indicad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10/05 – Avaliação AGEVAP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25/05 – 3ª Reunião – Fechamento me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16/06 – 4ª Reunião – Fechamento me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95360" y="4552920"/>
            <a:ext cx="723960" cy="1714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01680" y="4815000"/>
            <a:ext cx="6039000" cy="1448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Arial"/>
              </a:rPr>
              <a:t>19/06 – Conselho Administração AGEVA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Arial"/>
              </a:rPr>
              <a:t>20/06 – Discussão ANA / CT IL CEIVA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Arial"/>
              </a:rPr>
              <a:t>17/07 – Plenária do CEIVA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629080" y="2933640"/>
            <a:ext cx="4457520" cy="368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TÉ 10/05 – APRECIAÇÃO DIRE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2482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d1ec"/>
                </a:solidFill>
                <a:latin typeface="Arial"/>
              </a:rPr>
              <a:t>COMISSÃO DE ACOMPANHAMENTO DOS CONTRATOS DE GESTÃ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4362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RIG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1243080"/>
            <a:ext cx="9144000" cy="56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672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ÊNCIA E COBRANÇ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838760" y="2570040"/>
            <a:ext cx="4038480" cy="28195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43080" y="2495520"/>
            <a:ext cx="42670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ÍCIO ATIVIDADES 1° SET 20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3 –  5,9 ARREC /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5,4 REPAS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4 –  6,3 ARREC /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,6 REPAS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5 –  5,9 ARREC /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6,2 REPASS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6 –  3,4 ARREC /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,5 REPAS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NOVAÇÃO ATÉ 30 JUNHO 2016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2388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ª FASE DO CONTRATO DE GEST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62280" y="1104840"/>
            <a:ext cx="48006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ESTRUTURAÇÃO DA ENTIDADE E DOS PROCESSOS DE GEST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676680"/>
            <a:ext cx="723960" cy="1714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9040" y="236232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ICADORES DE PROCES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3257640"/>
            <a:ext cx="3524400" cy="2871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PLANO DE BA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SISTEMA DE INFORMAÇÕ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INVESTIMEN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ADMINISTRAÇÃO INTER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43360" y="2362320"/>
            <a:ext cx="17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933800" y="3168720"/>
            <a:ext cx="14860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     0     2,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   7,6   8,3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     7,6    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   10   1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016760" y="2349360"/>
            <a:ext cx="17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ULT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597720" y="3137040"/>
            <a:ext cx="2546280" cy="2871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LANO EM REVIS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ISTEMA NO SI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RMATIZ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RMATIZAD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250" autoRev="1" fill="hold"/>
                                        <p:tgtEl>
                                          <p:spTgt spid="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2388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ª FASE DO CONTRATO DE GEST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62280" y="1104840"/>
            <a:ext cx="48006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ESTRUTURAÇÃO DA ENTIDADE E DOS PROCESSOS DE GEST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676680"/>
            <a:ext cx="723960" cy="1714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9040" y="236232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ICADORES DE EFICIÊN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257640"/>
            <a:ext cx="3981600" cy="2871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CADASTRO DE USUÁRI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CONTRATAÇÃO DE OBR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APLICAÇÃO RECURS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SUSTENTABILIDADE FINANCEI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43360" y="2362320"/>
            <a:ext cx="17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933800" y="3168720"/>
            <a:ext cx="16765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     0    N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buClr>
                <a:srgbClr val="ffffff"/>
              </a:buClr>
              <a:buFont typeface="Arial"/>
              <a:buAutoNum type="arabicPlain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    2,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,9   6,6   8,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    10    1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349360"/>
            <a:ext cx="17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ULT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692760" y="3137040"/>
            <a:ext cx="2451240" cy="2871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SCONSIDER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RMATIZADA CE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O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TENDID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250" autoRev="1" fill="hold"/>
                                        <p:tgtEl>
                                          <p:spTgt spid="1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2388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ª FASE DO CONTRATO DE GEST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62280" y="1104840"/>
            <a:ext cx="48006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ESTRUTURAÇÃO DA ENTIDADE E DOS PROCESSOS DE GEST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676680"/>
            <a:ext cx="723960" cy="1714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9040" y="236232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ICADORES DE EFETIVIDA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3619440"/>
            <a:ext cx="3086280" cy="203724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AVALIAÇÃO CEIV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VISIBILIDADE NA BA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PARCERI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43360" y="2362320"/>
            <a:ext cx="17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71960" y="3606840"/>
            <a:ext cx="16383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,3    7,9    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,3    9,5   7,7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      3,8    3,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016760" y="2349360"/>
            <a:ext cx="17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ULT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093080" y="3594240"/>
            <a:ext cx="1650960" cy="2037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O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O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UI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10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238880" cy="799920"/>
          </a:xfrm>
          <a:prstGeom prst="rect">
            <a:avLst/>
          </a:prstGeom>
          <a:solidFill>
            <a:srgbClr val="45c98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ª FASE DO CONTRATO DE GEST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62280" y="1104840"/>
            <a:ext cx="4800600" cy="12027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1° DE JULHO DE 20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30 DE JUNHO DE 20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1800" y="2914560"/>
            <a:ext cx="30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CG - A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7680" y="3962520"/>
            <a:ext cx="3181320" cy="203724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JOÃO LUIZ - SA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MARLY TERRELL - SP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MILTON CESÁRIO - A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PATRICK - SA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WILDE - SA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48320" y="2921040"/>
            <a:ext cx="318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GEVAP CEIV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35440" y="3602160"/>
            <a:ext cx="4952880" cy="32889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9933"/>
                </a:solidFill>
                <a:latin typeface="Arial"/>
              </a:rPr>
              <a:t>ANDREA FRANCOMANO – CA/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9933"/>
                </a:solidFill>
                <a:latin typeface="Arial"/>
              </a:rPr>
              <a:t>APARECIDA VARGAS – SEC EXECUTI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9933"/>
                </a:solidFill>
                <a:latin typeface="Arial"/>
              </a:rPr>
              <a:t>HELOISE BRANT – CA/IG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9933"/>
                </a:solidFill>
                <a:latin typeface="Arial"/>
              </a:rPr>
              <a:t>HENDRIK MANSUR – COORD. GEST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9933"/>
                </a:solidFill>
                <a:latin typeface="Arial"/>
              </a:rPr>
              <a:t>JOÃO JERÔNIMO - DIRE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9933"/>
                </a:solidFill>
                <a:latin typeface="Arial"/>
              </a:rPr>
              <a:t>MARILENE RAMOS – CA/SER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9933"/>
                </a:solidFill>
                <a:latin typeface="Arial"/>
              </a:rPr>
              <a:t>PATRÍCIA BOSON – CA/FIEM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9933"/>
                </a:solidFill>
                <a:latin typeface="Arial"/>
              </a:rPr>
              <a:t>ELIANE BARBOSA - AGEV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62000" y="245736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QUIPE DE NEGOCIAÇ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1" dur="250" autoRev="1" fill="hold"/>
                                        <p:tgtEl>
                                          <p:spTgt spid="1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7120" y="-360"/>
            <a:ext cx="746748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ª FASE DO CONTRATO DE GEST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314360"/>
            <a:ext cx="824868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DEFINIÇÃO OBJETIVA DE ATRIBUIÇÕES DA AGEV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52520" y="3733920"/>
            <a:ext cx="6458040" cy="825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ARANTIA DE TÉRMINO DE CONTRATOS PELA 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28800" y="4857840"/>
            <a:ext cx="5791320" cy="459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RROGAÇÃO ATÉ 20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62080" y="6338880"/>
            <a:ext cx="7429320" cy="5205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ASSE MENSAL SEM CRONOGRA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00280" y="302904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TIRADA LIMITAÇÃO SALARIAL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3680" y="2197080"/>
            <a:ext cx="786744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FINIÇÃO OBJETIVA DAS ATRIBUIÇÕES DA 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873080" y="556884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BRICA ÚNICA PARA O REPAS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18920" y="188640"/>
            <a:ext cx="7257960" cy="819000"/>
          </a:xfrm>
          <a:prstGeom prst="rect">
            <a:avLst/>
          </a:prstGeom>
          <a:solidFill>
            <a:srgbClr val="45c98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ª FASE DO CONTRATO DE GEST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62280" y="1104840"/>
            <a:ext cx="48006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BUSCA DA EFICIÊNCIA E DA EFETIVIDADE NA BA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00240" y="1905120"/>
            <a:ext cx="7143840" cy="3682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ULTADOS DAS 4 REUNIÕES ANA AGEVAP CEIV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111400" y="2376360"/>
            <a:ext cx="5535720" cy="44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19280" y="189000"/>
            <a:ext cx="7238880" cy="799920"/>
          </a:xfrm>
          <a:prstGeom prst="rect">
            <a:avLst/>
          </a:prstGeom>
          <a:solidFill>
            <a:srgbClr val="45c98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ª FASE DO CONTRATO DE GEST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762280" y="1104840"/>
            <a:ext cx="48006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BUSCA DA EFICIÊNCIA E DA EFETIVIDADE NA BA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3886200"/>
            <a:ext cx="533520" cy="1714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9040" y="236232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TÉRIOS PARA EFICIÊN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66720" y="2933640"/>
            <a:ext cx="4495680" cy="37062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INFORMAÇÕES DISPONÍVE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INFORMAÇÕES ATUALIZAD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TEMPO DE APLICAÇÃO R$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R$ COBRANÇA / R$ CONTRAPART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PONTUALIDADE CONTRATU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067360" y="23875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TÉRIOS PARA EFETIVIDA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67320" y="2959200"/>
            <a:ext cx="3676680" cy="12027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CONSULTAS À PÁG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AVALIAÇÃO PELO COMITÊ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00240" y="1905120"/>
            <a:ext cx="7143840" cy="3682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ULTADOS DAS 4 REUNIÕES ANA AGEVAP CEIV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2T14:25:47Z</dcterms:created>
  <dc:creator>Bolivar Antunes Matos</dc:creator>
  <dc:description/>
  <dc:language>en-US</dc:language>
  <cp:lastModifiedBy>wilde</cp:lastModifiedBy>
  <dcterms:modified xsi:type="dcterms:W3CDTF">2006-07-15T13:52:20Z</dcterms:modified>
  <cp:revision>822</cp:revision>
  <dc:subject>Apresentação do Dr. Oscar Cordeiro Netto</dc:subject>
  <dc:title>Água: um problema de segurança alimenta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92435130</vt:r8>
  </property>
  <property fmtid="{D5CDD505-2E9C-101B-9397-08002B2CF9AE}" pid="3" name="_AuthorEmail">
    <vt:lpwstr>flavia.barros@ana.gov.br</vt:lpwstr>
  </property>
  <property fmtid="{D5CDD505-2E9C-101B-9397-08002B2CF9AE}" pid="4" name="_AuthorEmailDisplayName">
    <vt:lpwstr>Flavia Gomes de Barros</vt:lpwstr>
  </property>
  <property fmtid="{D5CDD505-2E9C-101B-9397-08002B2CF9AE}" pid="5" name="_EmailSubject">
    <vt:lpwstr>apresentação</vt:lpwstr>
  </property>
  <property fmtid="{D5CDD505-2E9C-101B-9397-08002B2CF9AE}" pid="6" name="_PreviousAdHocReviewCycleID">
    <vt:r8>376229889</vt:r8>
  </property>
  <property fmtid="{D5CDD505-2E9C-101B-9397-08002B2CF9AE}" pid="7" name="_ReviewingToolsShownOnce">
    <vt:lpwstr/>
  </property>
</Properties>
</file>